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660E-52AF-4A13-B0E4-A8F814987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0627-6E8A-4D0F-9F80-8C3B8144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C011-B21E-4160-AAC0-B6FB3CC1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EA29-1A2D-49AD-AE0F-6CC113D4A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31DD-306A-44AD-B354-88965260E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A749-1105-46C2-A1AA-38A3E4F1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9DF7-209D-4861-B5F0-CFB6EF4A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1FAD-33E6-49A0-A246-76933498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3CF7-6BD9-40E3-A9CA-4930CD3D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18DB-FCEF-4762-9531-644BCFEC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38C8-FEF3-477D-A6C8-9C642704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3914-E061-4F04-80C6-341AAF5D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3F5F-8B87-4259-96DB-0321F296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EFF9-9325-4D2F-8D45-5CD56CAE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2855-14A6-41EA-A135-C14E2637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01BB-7570-4996-9663-99D2FAE13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9C9D-78C9-4F3C-A8A3-E89D5F8A2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BC68-394C-4C34-BBA7-05795015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21C7-6BE8-4176-8552-7DC4A983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3EEF-9AD4-40F4-B7BF-308C3455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D574-C405-4290-BC54-0E371C63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1CA3-7ABC-49ED-B104-447AE6BA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68DD-1890-43BA-B1C8-A352CCBA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611E-D6E4-4D8A-AE6B-B1F61B1B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3441-B1F5-4AB5-A84F-A32999BB2CD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A009-0259-49FE-AC3E-C97EA2C278E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ir, We Would See Jesus”</a:t>
            </a:r>
            <a:br>
              <a:rPr sz="4000"/>
            </a:b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Life of Christ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3657600"/>
            <a:ext cx="81536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9, Lesson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20-2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t.4:1-11, Mark 1:12-13, John 1:19-5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8C77-8CC5-40B9-AB90-1B68D8446A6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The Life of Christ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ars of Prepa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ginning Mini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eat Galilean Mini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iod of Retir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sing Mini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ast We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rrection and Exal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22096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We are he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105520" y="2514600"/>
            <a:ext cx="1371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200C-A8DC-4D2C-9AF0-DEF53B74BD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Temptation of Jesus</a:t>
            </a:r>
            <a:br>
              <a:rPr sz="36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tt. 4:1-11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Wilderness 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was without food 40 D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tan said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If you are the Son of God, command these stones to turn into bread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replied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It is written: Man does not live by bread alone but by every word that comes from the mouth of God.”  (Deut. 8: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Temptation – Lust of the Fle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E255-268A-42C4-AE36-779382665DA9}" type="slidenum">
              <a:t>3</a:t>
            </a:fld>
          </a:p>
        </p:txBody>
      </p:sp>
    </p:spTree>
  </p:cSld>
  <p:transition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Temptation of Jesus</a:t>
            </a:r>
            <a:br>
              <a:rPr sz="36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rk 1:12-13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the highest point of the temple 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tan said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If you are the Son of God, throw yourself down because it is written: He will command His angels concerning you, and they will lift you up on their hands, so that you will not strike your foot against a stone.”  (Psa. 91:11-12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replied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It is also written: Do not test the Lord your God.” (Deut. 6:1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Temptation – Pride of Li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AC43-1ED4-4A05-B799-AFB1C5627B15}" type="slidenum">
              <a:t>4</a:t>
            </a:fld>
          </a:p>
        </p:txBody>
      </p:sp>
    </p:spTree>
  </p:cSld>
  <p:transition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Temptation of Jesus</a:t>
            </a:r>
            <a:br>
              <a:rPr sz="36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uke  4:1-13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the top of a very high mountain looking over all the kingdoms 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tan sai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“All these things I will give you if you will bow down and worship me.”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repli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“Get out of here Satan! Because it is written:  Worship the Lord your God, and serve Him alone.” (Deut. 6:1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Temptation – Lust of the Ey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C084-9419-4F09-91DA-A098C3D41B62}" type="slidenum">
              <a:t>5</a:t>
            </a:fld>
          </a:p>
        </p:txBody>
      </p:sp>
    </p:spTree>
  </p:cSld>
  <p:transition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John’s Testimony of Himself</a:t>
            </a:r>
            <a:br>
              <a:rPr sz="36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John 1:19-28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ws and Levites asked John to identify himsel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hn repli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am not the Chr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am not Elij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am not the Prophet Moses foreto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am the voice of one calling in the wilder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baptize with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am not worthy to untie the thongs of His sand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ED96-65E3-4A17-8E1B-0403917DB379}" type="slidenum">
              <a:t>6</a:t>
            </a:fld>
          </a:p>
        </p:txBody>
      </p:sp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John’s Testimony Regarding Jesus’ Baptism</a:t>
            </a:r>
            <a:br>
              <a:rPr sz="32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John 1:29-34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ok the Lamb of God, who takes away the sin of the world!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existed before 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pirit came down from heaven as a dove and remained on H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ill baptize you with the Holy Spir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e is the Son of G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BFDA-9A68-412F-A74F-B9F86D3E2B53}" type="slidenum">
              <a:t>7</a:t>
            </a:fld>
          </a:p>
        </p:txBody>
      </p:sp>
    </p:spTree>
  </p:cSld>
  <p:transition>
    <p:fad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John’s Disciples Follow Jesus</a:t>
            </a:r>
            <a:br>
              <a:rPr sz="36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John 1:35-51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hn directed His disciples to Jesus 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r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ter (Also called Simon, Ceph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other disciple (probably Joh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returned to Galile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-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ill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hana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C89C-5BE3-4238-89AC-2E8631F01605}" type="slidenum">
              <a:t>8</a:t>
            </a:fld>
          </a:p>
        </p:txBody>
      </p:sp>
    </p:spTree>
  </p:cSld>
  <p:transition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756F-4E57-446A-A263-F56E847400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2:10:53Z</dcterms:created>
  <dc:creator>John Vines</dc:creator>
  <dc:description/>
  <dc:language>en-US</dc:language>
  <cp:lastModifiedBy>Frank D Vines</cp:lastModifiedBy>
  <dcterms:modified xsi:type="dcterms:W3CDTF">2006-07-23T12:54:56Z</dcterms:modified>
  <cp:revision>25</cp:revision>
  <dc:subject/>
  <dc:title>Sir, We Would See Jesus Life of Christ</dc:title>
</cp:coreProperties>
</file>